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D33-5E4D-46DA-8439-4914C955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414-A88B-46BA-BFF7-38378EF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746-81D9-4A5B-850F-48B8AAC9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FE5-45F5-413D-92CF-6BF8C9FD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CFE-7D2C-4814-B819-40597A94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FC2-6DD1-4D62-899E-B46D10F7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D54-24BE-4FDC-81FF-4EF4F65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8E2-D65B-4D40-BB68-CB634674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69F-C833-46B0-8B86-0977970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799-FACB-40FB-9EFC-516C623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692-1B2E-49C6-B39C-7D6F3FE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676-E35F-4FA9-BAF6-A698D57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FAD-E4DD-4A99-B34A-CBBC41999D0A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696-9A95-47C3-989F-EC1C362180E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sciencenews.org/article/scientists-watch-bacteria-evolve-antibiotic-resistanc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theguardian.com/internationa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Antibacterial resis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sciencenews.org/article/scientists-watch-bacteria-evolve-antibiotic-resist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Write your own definition for the following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gro-ecosystem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od system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duc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cessing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stribu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sump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aste Management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alue added Marketing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alue added Product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BBA6-5811-410A-96A5-18B4744C079C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CCB-1D73-45F8-A77E-3A101DDC2D0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 </a:t>
            </a: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System</a:t>
            </a:r>
            <a:r>
              <a:rPr b="1" lang="en-US" sz="5400" spc="-1" strike="noStrike">
                <a:solidFill>
                  <a:srgbClr val="5b9bd5"/>
                </a:solidFill>
                <a:latin typeface="Papyr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294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 regularly interacting or interdependent  group of items forming a unified who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E3B-CE51-4947-A63D-E6D7FA47A36C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FB5-FA2B-401C-B143-399A1749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rosman_field copy"/>
          <p:cNvPicPr/>
          <p:nvPr/>
        </p:nvPicPr>
        <p:blipFill>
          <a:blip r:embed="rId1"/>
          <a:stretch/>
        </p:blipFill>
        <p:spPr>
          <a:xfrm>
            <a:off x="2209680" y="3124080"/>
            <a:ext cx="4388040" cy="29624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n </a:t>
            </a: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Ecosystem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 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600" y="91440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e interactions of</a:t>
            </a:r>
            <a:r>
              <a:rPr b="0" lang="en-US" sz="3300" spc="-1" strike="noStrike">
                <a:solidFill>
                  <a:srgbClr val="44546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ving organism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hysical environment in a geographic lo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BC6-A937-40FA-AD6E-2152178E2924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F2A-ACEA-439F-8990-78D71C194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Switchgrass%20Sunset%20color copy"/>
          <p:cNvPicPr/>
          <p:nvPr/>
        </p:nvPicPr>
        <p:blipFill>
          <a:blip r:embed="rId1"/>
          <a:stretch/>
        </p:blipFill>
        <p:spPr>
          <a:xfrm>
            <a:off x="4800600" y="4267080"/>
            <a:ext cx="2751120" cy="1976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Ecosystems</a:t>
            </a:r>
            <a:r>
              <a:rPr b="1" lang="en-US" sz="5400" spc="-1" strike="noStrike">
                <a:solidFill>
                  <a:srgbClr val="0563c1"/>
                </a:solidFill>
                <a:latin typeface="Papyr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, transform, and waste </a:t>
            </a:r>
            <a:r>
              <a:rPr b="1" lang="en-US" sz="3200" spc="-1" strike="noStrike">
                <a:solidFill>
                  <a:srgbClr val="24ac16"/>
                </a:solidFill>
                <a:latin typeface="Calibri"/>
              </a:rPr>
              <a:t>energy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unlight, food, fossil fuel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ycle, lose, and get</a:t>
            </a:r>
            <a:r>
              <a:rPr b="0" lang="en-US" sz="3200" spc="-1" strike="noStrike">
                <a:solidFill>
                  <a:srgbClr val="0563c1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24ac16"/>
                </a:solidFill>
                <a:latin typeface="Calibri"/>
              </a:rPr>
              <a:t>nutrie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itrogen, phosphorus, potassium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81E-69ED-4D68-A48F-6F84EB849995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2E18-24C6-4166-B6C5-A1F2C5D6E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900"/>
            </a:b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Ecosyste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014-FB25-4607-B463-64990C4F8FDC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0822-1394-4998-B848-AAC10AB9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362320" y="3124080"/>
            <a:ext cx="2971800" cy="2743200"/>
          </a:xfrm>
          <a:prstGeom prst="ellipse">
            <a:avLst/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6934320" y="2438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6e6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 flipH="1">
            <a:off x="4876560" y="312408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563440" y="3127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971440" y="4343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098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42670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915120" y="3813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370880" y="28224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066680" y="4879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228600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 flipH="1">
            <a:off x="16761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1676160" y="4724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n </a:t>
            </a: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Agro-ecosystem</a:t>
            </a:r>
            <a:r>
              <a:rPr b="1" lang="en-US" sz="5400" spc="-1" strike="noStrike">
                <a:solidFill>
                  <a:srgbClr val="0563c1"/>
                </a:solidFill>
                <a:latin typeface="Papyr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5880" y="1981080"/>
            <a:ext cx="5794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ecosystem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aged to produ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od or fi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E4D-B238-4A48-B8FA-F05A52B8F438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761-3C2D-4D11-8D26-1388390A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Farmoval"/>
          <p:cNvPicPr/>
          <p:nvPr/>
        </p:nvPicPr>
        <p:blipFill>
          <a:blip r:embed="rId1"/>
          <a:stretch/>
        </p:blipFill>
        <p:spPr>
          <a:xfrm>
            <a:off x="4495680" y="4038480"/>
            <a:ext cx="3353040" cy="21621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 </a:t>
            </a: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Food System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 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way that food moves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the farm to the consu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7CDF-A97F-41A6-8391-E091A3250E5A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E405-0866-404A-AD8E-F159DD0A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95280" y="4114800"/>
            <a:ext cx="7620120" cy="1981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eggies"/>
          <p:cNvPicPr/>
          <p:nvPr/>
        </p:nvPicPr>
        <p:blipFill>
          <a:blip r:embed="rId1"/>
          <a:stretch/>
        </p:blipFill>
        <p:spPr>
          <a:xfrm>
            <a:off x="3505320" y="4495680"/>
            <a:ext cx="1218960" cy="10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tore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ouse"/>
          <p:cNvPicPr/>
          <p:nvPr/>
        </p:nvPicPr>
        <p:blipFill>
          <a:blip r:embed="rId3"/>
          <a:stretch/>
        </p:blipFill>
        <p:spPr>
          <a:xfrm>
            <a:off x="7620120" y="4572000"/>
            <a:ext cx="1143000" cy="1109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Farmoval"/>
          <p:cNvPicPr/>
          <p:nvPr/>
        </p:nvPicPr>
        <p:blipFill>
          <a:blip r:embed="rId4"/>
          <a:stretch/>
        </p:blipFill>
        <p:spPr>
          <a:xfrm>
            <a:off x="1371600" y="4572000"/>
            <a:ext cx="1676520" cy="1081080"/>
          </a:xfrm>
          <a:prstGeom prst="rect">
            <a:avLst/>
          </a:prstGeom>
          <a:ln w="0">
            <a:noFill/>
          </a:ln>
        </p:spPr>
      </p:pic>
      <p:sp>
        <p:nvSpPr>
          <p:cNvPr id="138" name="Line 11"/>
          <p:cNvSpPr/>
          <p:nvPr/>
        </p:nvSpPr>
        <p:spPr>
          <a:xfrm>
            <a:off x="3124080" y="502920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800600" y="510552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086600" y="518148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Parts of a food syste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67616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how the food is cultivated or 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Processing</a:t>
            </a:r>
            <a:r>
              <a:rPr b="0" lang="en-US" sz="2400" spc="-1" strike="noStrike">
                <a:solidFill>
                  <a:srgbClr val="24ac1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ing the raw farm products in preparation for markets (cleaning, butchering, manufacturing, packaging, cooking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how the food is moved from the farm to the processor or consu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Consum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how and where the food is ea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Waste manage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he waste products (leftovers or byproducts) are managed after processing or consumer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923-CDF5-4FB7-82FC-7417D2C386DE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C82-80C7-4E3A-8FDC-7CE2DABD1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8DEB-2D14-4874-8703-A141527684A2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4C8D-1286-49B3-BC9E-CD9700D4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https://www.ces.ncsu.edu/wp-content/uploads/2013/06/Local-Foods-System-Diagram-no-title.jpg"/>
          <p:cNvPicPr/>
          <p:nvPr/>
        </p:nvPicPr>
        <p:blipFill>
          <a:blip r:embed="rId1"/>
          <a:stretch/>
        </p:blipFill>
        <p:spPr>
          <a:xfrm>
            <a:off x="1187280" y="685800"/>
            <a:ext cx="6769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Food dol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ttps://vimeo.com/571416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264-43B6-4A78-B78E-5CBE90719B93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2FA-5340-4BBE-BB2F-33CBFF470B2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theguardian.com/internation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What was on the front page of the ‘best’ newspaper in the world today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015C-0D6A-4A3E-9B20-12A3FEF442AA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22FC-DA4B-4E3B-965C-97DE029D60B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62E-9429-4602-9D3B-86A4705E20A6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D9B0-B478-4F15-BA99-B3EB7F5D639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4E4-615C-4B97-9988-C392A5FDE73D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FF2-6A79-4FB9-919E-7046E6FDE43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http://www.bq-magazine.com/wp-content/uploads/2015/03/Food-waste-statistics.png"/>
          <p:cNvPicPr/>
          <p:nvPr/>
        </p:nvPicPr>
        <p:blipFill>
          <a:blip r:embed="rId1"/>
          <a:stretch/>
        </p:blipFill>
        <p:spPr>
          <a:xfrm>
            <a:off x="784080" y="1825560"/>
            <a:ext cx="75758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Quick Activity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1. Write down everything you ate yester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2. Choose one item and write a brief sentence for each of the follow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ow is it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roduc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Proces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Distribut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consumed (cooked, prepare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the Waste Manag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F665-DE61-4F42-922F-01B704942B4B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669-1109-43A8-AF55-8CB84B7876C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 Light"/>
              </a:rPr>
              <a:t>here are some commonly-bought food items, their retail prices and the portion of the money that goes toward to the farmer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con, $4.39, $0.55 (12.5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read, $3.39, $0.15 (4.4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ggs, $2.59, $0.74 (28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lk, $3.99, $1.30 (32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ttuce, $1.99, $0.37 (18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ps, $3.99, $0.09 (2.3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er, $6.29, $0.10 (1.6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observations can we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603-BC31-4CDE-859B-5E81675FC748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531-E244-485F-B3D5-D6DA9BAC3EE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 Light"/>
              </a:rPr>
              <a:t>This gets us thinking about the food system overall. How much does it cost and where does the money go?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Why is a dozen eggs 5$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760-8159-4E1D-8ECE-BA0B1AD51146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026-93F4-46FF-A6DF-66006EB4586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267080" y="1981080"/>
            <a:ext cx="4038840" cy="37386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Food dol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ttps://vimeo.com/571416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0FF-0944-4C6D-B4DC-CE12CEBA6537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644-52F3-4AE8-B432-584886CEEA7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CE3-90B3-41E5-A8DB-8949839B3394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0F6-6A8A-4115-8A62-6A41550BF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rcRect l="0" t="34446" r="57500" b="26296"/>
          <a:stretch/>
        </p:blipFill>
        <p:spPr>
          <a:xfrm>
            <a:off x="615960" y="129528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e</dc:creator>
  <dc:description/>
  <dc:language>en-US</dc:language>
  <cp:lastModifiedBy>Sean</cp:lastModifiedBy>
  <dcterms:modified xsi:type="dcterms:W3CDTF">2016-09-21T13:41:43Z</dcterms:modified>
  <cp:revision>82</cp:revision>
  <dc:subject/>
  <dc:title>PowerPoint Presentation</dc:title>
</cp:coreProperties>
</file>